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35B-A922-477A-AF6A-3D309740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DF8-BB0C-419E-9E74-515CBDF1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F22D3-B36F-40D2-8C39-47FB9C28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2383E-ECCB-41E7-878B-2210FC56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25927-7C06-41C3-B626-DD206C84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3FE61-DF73-43B7-BA6B-571C9D8D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1967A-26A4-4615-8B24-C4606058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15591-4670-4390-8DD5-1BE8F9DA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A0B98-98A6-4841-8BED-8390BA97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45238-E2A3-47AF-93FE-5273484F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B7122-FE59-47D2-BB49-1B7A1DF0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A50F6-AF79-415A-AFC3-6D2F86B1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0BA-9B11-40B4-85F6-5A43AC66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CF817-D89A-4C65-84FA-818C9484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5D6A5-D033-45ED-B8A8-7BF42169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54B55-9C87-4956-9C3B-AB5A25A5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10B2C-9EA9-4B9D-B7B4-C7785E58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E6F36-298C-4B3A-AB6C-282A7C67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0F297-9A92-4FF5-84A6-92E135F3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34769-A130-4DB6-AC10-CC03A835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24DD1-7343-4242-8DC5-2992CF3A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2EE8B-2A54-4E8D-B049-944D511D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5E6A6-6ED5-4D1B-A926-ABE0B87E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8CC-B735-444F-B1F2-2D8D0EA2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F4A79-2C1F-45A3-8AFE-C0D5A05C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DAAE3-B780-4D5A-B33D-364E3DC1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FD2FC-B8CD-4063-91C2-8230AA96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48E26-0D86-462A-8013-4C879CA2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D0E61-6B21-442C-9415-0C91B867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69B43-7D79-4AB0-B50B-652CD8C2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03D7C-3FD1-4F44-8C9C-70FD8ED5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CFFC3-DE97-4469-8105-1EB17258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4552D-4037-469F-A57E-26F6043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94336-AFFC-4801-99B8-84217810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39C5-3C2D-4C71-8D01-5AA0EF93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58BD3-D0A9-4FEF-B821-6074C7A8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48D45-6E51-4130-B1E7-214B15B5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C479E-BF5A-4CAF-A95C-F9C9ABC4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4BF22-C2E6-4E96-8C80-257DEA2C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B39C1-C4C1-4255-A2DD-C058E36C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D7A53-224A-4BA1-A91B-766EB612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DB95F-47EA-47C2-9720-A012311A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4EB44-001F-4DDA-AED4-D3C66FC4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DDE67-9710-4905-8AA6-EB6F6785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1F022-C1C4-4EF7-9DAF-E0962F30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107A-858A-4E33-B51C-D3681C3A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800CC-4842-46DD-BAF9-A8904402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125D9-7421-487F-8279-8D8B9FA3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D2F43-3FAF-47EC-B743-38140A2E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6E847-442F-4BEA-9593-3EEA6E7C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BCFA9-BC1C-439F-B4D7-DA765FAE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5C3FC-B888-49A4-95DF-BBA13C3F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5500F-898D-41AB-A414-D1A57D3E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F6870-27E0-4D5B-99F9-FB356444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7C03E-F9B9-487B-9F71-BEB89F4F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C4E2E-A261-472C-A066-55042C3F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5132-C4B6-45FE-8741-3EC51F39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F5FB3-5D67-48EC-8276-F84518B2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9CE04-11A0-4CE6-96DA-CB58C68B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CAFFE-E750-47B1-96E7-5CA2B121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A9C9A-EE61-4933-908F-49DE93C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DD072-1F8B-40FC-8EE9-D9D17962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F366F-4F4D-4692-B1DA-E0FDA127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46AB7-6142-4327-BE1B-A0252BFE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1A3C-2E64-400A-B218-DEB85D16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73F3-A171-4A92-909E-A6081D27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B9D9-AFB8-4F40-8F16-54ED306C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50C6-9C72-4605-94CF-3E5DDB61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668-F158-452B-8220-749BE9D6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F019-AFEB-48CD-ACF8-49CA2D5B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1226-ABEE-48F6-BD04-B80D1C3B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4D89-671B-457A-862F-0A81B2F7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682A-30DC-4B38-AE4E-95A71C4D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1E9-3DE0-4B7E-B2D5-AE4E3E04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2410-E529-4CB7-A450-A909F6D6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38243-DF37-4B57-9BDA-C5AAEB32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35AB-E083-4183-A867-7513D3F1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B003-360A-4634-96B1-063FA2BE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95E5-FE94-4483-8154-7C82BDF5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C46-2F5F-44BC-8AAF-083CE6DD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381E4-D451-4CD4-99E7-EE6728BA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3713-F9FB-4F38-97FB-8DC435E6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7062-072F-4A6A-84D3-C8048025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1727-30C7-4AC8-A194-2C5C5D08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4429-68BE-465F-A8E6-2C588086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BA9E-FB68-40E0-833D-9D7E3F7B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57E1-1C13-495F-AEA6-EED1E0BA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4CF8-CF42-40C1-892F-8F7748F4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FF055-BC92-41CE-9601-C2CDD4AB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BF2D-BDBC-4DAA-9D2D-4CA9C60A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49F-A76B-443C-839A-9A9FD787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E444-A445-4CDE-A04E-0468DDDB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93CE-8320-4FBC-A464-BFE0142A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C51A7-6D9E-41BB-8D6D-BD4E7B74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B8257-7A56-45DE-9B51-45650F39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3C5DA-FC51-4202-89AF-78BA8500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15143-3D5F-40E3-88E2-6CB391BA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1F3F-17EC-4239-9900-4E8848E1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016B0-1FBF-42ED-897F-3D992A66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DE4E-2817-485E-A642-78A7B2A4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FCE21-BC09-46B1-A8B8-2B989BF7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349-94CD-4938-BA16-6345E9E3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AAD5A-FF38-44B0-96A7-212DABE9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93BA5-55BB-4C63-8D9D-7FDDD93D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6944C-B222-4E5F-8C4B-7E80F988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43371-F486-49EE-9A59-8D16D9B3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245E3-6527-41CA-9279-F1F00612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AD49-8631-4563-AD0E-A9A6EBB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7E90F-466E-4D3A-B6BD-EAFD7F2A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F9C9-9254-47D4-94E6-8F75FC25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889DB-8E93-47DD-9D10-632E1B3E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F23F-F725-423C-A9F4-A310F4DD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B83-7FBD-40F8-959F-244C8439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3EB6-BBAE-4E4C-A8F5-65A5C09E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BD743-E13E-4235-A36F-A98B48BC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838C6-2E1B-4D48-B261-0E2A9F19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24171-8211-434C-934D-885913E9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DA8D4-C12D-4DF2-9F76-2F3DAE19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EBDAC-9E1A-40FF-9865-250CD201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5DF96-49EF-4D1C-9FD4-07A89B45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D0DD6-4230-4AA8-879E-6E1C9AA4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B22DA-968A-4303-B2AD-B6FE8598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0625D-A4E1-480A-8237-F48CDC64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CD2-7446-45C8-9794-3D2FB9A6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F5625-1EDE-4BBF-AD4E-3D56EA8C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1A8FD-BB10-4000-8C9B-B3F9A0F8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AFA27-9ED6-4E51-8677-7E6B53BC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556C6-F78B-4A0A-8F8C-305878D4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8CA56-B190-476C-AE70-2DE86DE9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561A8-D1BE-4880-B105-7118B2F2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43744-096C-4699-85CB-E30F8F51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21DE3-FD02-4BB5-890A-02320587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CCABF-3FBA-4F65-9B55-945C7B30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17302-6A4E-4108-BEFD-12346E8A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66E-CC43-4E55-999D-4A6ABF56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03218-2AE8-4F74-9076-0EC3A1DD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56DA1-B0F2-4B16-8689-AA34CF50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833DF-9D71-4B75-9FAA-CD83DBED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6B64D-F8A8-47F2-804B-5DDAEF33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E4A96-8DCC-4D20-9DD8-73D2A66A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6CF57-4619-48B4-8B9A-38FBDF91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36EC2-0380-4CE8-BD38-4C6EF812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B6C4B-3E80-4550-A52D-07714D17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48C59-36EF-4EBA-A952-1FBA5451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9F58B-3D52-4452-82C3-5BAFB2A1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F1A-E398-45F2-8E12-DBFEC8D9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FF58F-2DA0-4512-87DB-84A0F667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13B15-FB54-44A9-A859-EFF664AA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F6B67-576F-48DE-A246-8F611756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082AF-0720-4EFE-8D48-65D35F1D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D238A-C66C-49D4-90A2-2512C9C1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F6DB4-9A30-45C1-929B-FFC1BDA6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3E7E3-F99F-4D98-91FF-7C407266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1CF67-5CC0-46AB-9C6F-C8BE4CD9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48020-3310-4E5A-BBEB-5BC3DE43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2F12B-5C8E-4069-87F8-DB35E42A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3.xml"/><Relationship Id="rId35" Type="http://schemas.openxmlformats.org/officeDocument/2006/relationships/slideLayout" Target="../slideLayouts/slideLayout134.xml"/><Relationship Id="rId36" Type="http://schemas.openxmlformats.org/officeDocument/2006/relationships/slideLayout" Target="../slideLayouts/slideLayout135.xml"/><Relationship Id="rId37" Type="http://schemas.openxmlformats.org/officeDocument/2006/relationships/slideLayout" Target="../slideLayouts/slideLayout136.xml"/><Relationship Id="rId38" Type="http://schemas.openxmlformats.org/officeDocument/2006/relationships/slideLayout" Target="../slideLayouts/slideLayout137.xml"/><Relationship Id="rId39" Type="http://schemas.openxmlformats.org/officeDocument/2006/relationships/slideLayout" Target="../slideLayouts/slideLayout138.xml"/><Relationship Id="rId40" Type="http://schemas.openxmlformats.org/officeDocument/2006/relationships/slideLayout" Target="../slideLayouts/slideLayout139.xml"/><Relationship Id="rId41" Type="http://schemas.openxmlformats.org/officeDocument/2006/relationships/slideLayout" Target="../slideLayouts/slideLayout140.xml"/><Relationship Id="rId42" Type="http://schemas.openxmlformats.org/officeDocument/2006/relationships/slideLayout" Target="../slideLayouts/slideLayout141.xml"/><Relationship Id="rId43" Type="http://schemas.openxmlformats.org/officeDocument/2006/relationships/slideLayout" Target="../slideLayouts/slideLayout142.xml"/><Relationship Id="rId44" Type="http://schemas.openxmlformats.org/officeDocument/2006/relationships/slideLayout" Target="../slideLayouts/slideLayout143.xml"/><Relationship Id="rId4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CD3-67DD-473E-AD7A-A08283128AF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6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7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7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72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4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8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8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08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37A3-785C-410D-A921-2677CCFC818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6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6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6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6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6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7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8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8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0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642C-A594-486F-8C65-977C5D2710C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5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6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7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8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0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9EFA-C284-4C94-80B3-D07CB9D6576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4"/>
    <p:sldLayoutId id="2147483793" r:id="rId35"/>
    <p:sldLayoutId id="2147483794" r:id="rId36"/>
    <p:sldLayoutId id="2147483795" r:id="rId37"/>
    <p:sldLayoutId id="2147483796" r:id="rId38"/>
    <p:sldLayoutId id="2147483797" r:id="rId39"/>
    <p:sldLayoutId id="2147483798" r:id="rId40"/>
    <p:sldLayoutId id="2147483799" r:id="rId41"/>
    <p:sldLayoutId id="2147483800" r:id="rId42"/>
    <p:sldLayoutId id="2147483801" r:id="rId43"/>
    <p:sldLayoutId id="2147483802" r:id="rId44"/>
    <p:sldLayoutId id="2147483803" r:id="rId4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5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5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5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6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6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7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7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2CAD-1A60-4ECA-B258-995C26EC217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A100-6357-4D9D-A245-5ECF21F0F4E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46A5-F5F6-4540-AD96-86C8C544250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9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9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9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9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0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1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2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46D7-7913-4DEA-8BBE-36C5347CF80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8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9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9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92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4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0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8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9274-649B-402B-9CF8-23CC4E3F1D1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8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8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8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8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9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0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FFAA-7E7B-4937-9697-1CB808D8896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8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8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8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0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2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405D-123E-4767-AD34-9182DB670D9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7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7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7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7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8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8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9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1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C352-3DFF-4760-8D6A-06819646024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6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7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7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7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7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8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9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9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12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1F21-197F-4576-993C-0FB767FD1F0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lib.fbcc.bia.edu/FortBerthold/images/ThreeTribes/Spotted_Bull_Mandan.jp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content.answers.com/main/content/wp/en/thumb/9/94/180px-Mandan_girls_gathering_berries.JP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answers.com/topic/bodmer-bison-dance-jpg-1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swers.com/topic/bodmer-bison-dance-jpg-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swers.com/topic/catlin-mandan-village-jpg-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swers.com/topic/catlin-chief-four-bears-jpg-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memory.loc.gov/cgi-bin/query/S?pp/ils:@FILREQ(@field(SUBJ+@band(Crow&apos;s+Heart+))+@FIELD(COLLID+ecur))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PREPARING </a:t>
            </a:r>
            <a:r>
              <a:rPr b="0" lang="en-US" sz="2000" spc="-1" strike="noStrike">
                <a:solidFill>
                  <a:srgbClr val="000000"/>
                </a:solidFill>
                <a:latin typeface="Blackoak Std"/>
              </a:rPr>
              <a:t>Lewis and Clark</a:t>
            </a: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dobe Garamond Pro Bold"/>
              </a:rPr>
              <a:t>A Creative Story and Image Slide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Garamond Pro Bold"/>
              </a:rPr>
              <a:t>By Christine E. Farz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01_Spirit_Flyer_Fretwell_Flutes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1" name="WordArt 7"/>
          <p:cNvSpPr txBox="1"/>
          <p:nvPr/>
        </p:nvSpPr>
        <p:spPr>
          <a:xfrm rot="21436200">
            <a:off x="457200" y="1143000"/>
            <a:ext cx="7191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lackoak Std"/>
              <a:ea typeface="Blackoak Std"/>
            </a:endParaRPr>
          </a:p>
        </p:txBody>
      </p:sp>
      <p:sp>
        <p:nvSpPr>
          <p:cNvPr id="1252" name="WordArt 8"/>
          <p:cNvSpPr txBox="1"/>
          <p:nvPr/>
        </p:nvSpPr>
        <p:spPr>
          <a:xfrm rot="307800">
            <a:off x="380520" y="5257440"/>
            <a:ext cx="7191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lackoak Std"/>
              <a:ea typeface="Blackoak Std"/>
            </a:endParaRPr>
          </a:p>
        </p:txBody>
      </p:sp>
    </p:spTree>
  </p:cSld>
  <p:transition spd="slow" advTm="2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18" fill="hold"/>
                                        <p:tgtEl>
                                          <p:spTgt spid="1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618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" dur="2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" dur="2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729"/>
                </a:solidFill>
                <a:latin typeface="Arial"/>
              </a:rPr>
              <a:t>A Mandan woman</a:t>
            </a:r>
            <a:endParaRPr b="0" lang="en-US" sz="1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Picture 5" descr="1491286923_f76774114f"/>
          <p:cNvPicPr/>
          <p:nvPr/>
        </p:nvPicPr>
        <p:blipFill>
          <a:blip r:embed="rId1"/>
          <a:stretch/>
        </p:blipFill>
        <p:spPr>
          <a:xfrm>
            <a:off x="3276720" y="457200"/>
            <a:ext cx="4722840" cy="640080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5" descr="ew_ready_for_okipe_buffalo_dance_mandan_curtis_a2zcds"/>
          <p:cNvPicPr/>
          <p:nvPr/>
        </p:nvPicPr>
        <p:blipFill>
          <a:blip r:embed="rId1"/>
          <a:stretch/>
        </p:blipFill>
        <p:spPr>
          <a:xfrm>
            <a:off x="1523880" y="-380880"/>
            <a:ext cx="4972320" cy="757224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Buffalo=Primary Food Source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Picture 7" descr="buffalo2"/>
          <p:cNvPicPr/>
          <p:nvPr/>
        </p:nvPicPr>
        <p:blipFill>
          <a:blip r:embed="rId1"/>
          <a:stretch/>
        </p:blipFill>
        <p:spPr>
          <a:xfrm>
            <a:off x="0" y="1371600"/>
            <a:ext cx="7620120" cy="501804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6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4d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Buffalo Dancers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1" name="Picture 5" descr="Leader-of-Mandan-Buffalo-Bull-Society-Print-C10034011"/>
          <p:cNvPicPr/>
          <p:nvPr/>
        </p:nvPicPr>
        <p:blipFill>
          <a:blip r:embed="rId1"/>
          <a:stretch/>
        </p:blipFill>
        <p:spPr>
          <a:xfrm>
            <a:off x="0" y="1981080"/>
            <a:ext cx="2624040" cy="405792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6" descr="Leader-of-Mandan-Buffalo-Bull-Society-Print-C10034011"/>
          <p:cNvPicPr/>
          <p:nvPr/>
        </p:nvPicPr>
        <p:blipFill>
          <a:blip r:embed="rId2"/>
          <a:stretch/>
        </p:blipFill>
        <p:spPr>
          <a:xfrm>
            <a:off x="2590920" y="1981080"/>
            <a:ext cx="2624040" cy="4057920"/>
          </a:xfrm>
          <a:prstGeom prst="rect">
            <a:avLst/>
          </a:prstGeom>
          <a:ln w="0">
            <a:noFill/>
          </a:ln>
        </p:spPr>
      </p:pic>
      <p:pic>
        <p:nvPicPr>
          <p:cNvPr id="1293" name="Picture 7" descr="Leader-of-Mandan-Buffalo-Bull-Society-Print-C10034011"/>
          <p:cNvPicPr/>
          <p:nvPr/>
        </p:nvPicPr>
        <p:blipFill>
          <a:blip r:embed="rId3"/>
          <a:stretch/>
        </p:blipFill>
        <p:spPr>
          <a:xfrm>
            <a:off x="5181480" y="1981080"/>
            <a:ext cx="2624400" cy="405792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Picture 5" descr="111_Mandan_buffalo_dancer"/>
          <p:cNvPicPr/>
          <p:nvPr/>
        </p:nvPicPr>
        <p:blipFill>
          <a:blip r:embed="rId1"/>
          <a:stretch/>
        </p:blipFill>
        <p:spPr>
          <a:xfrm>
            <a:off x="1905120" y="304920"/>
            <a:ext cx="4360680" cy="617220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9" name="Picture 5" descr="bufdance"/>
          <p:cNvPicPr/>
          <p:nvPr/>
        </p:nvPicPr>
        <p:blipFill>
          <a:blip r:embed="rId1"/>
          <a:stretch/>
        </p:blipFill>
        <p:spPr>
          <a:xfrm>
            <a:off x="838080" y="1676520"/>
            <a:ext cx="6172200" cy="419580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A very Big Buffalo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7" descr="buffalo-bison_304"/>
          <p:cNvPicPr/>
          <p:nvPr/>
        </p:nvPicPr>
        <p:blipFill>
          <a:blip r:embed="rId1"/>
          <a:stretch/>
        </p:blipFill>
        <p:spPr>
          <a:xfrm>
            <a:off x="304920" y="1793880"/>
            <a:ext cx="7619760" cy="506412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d943f"/>
                </a:solidFill>
                <a:uFillTx/>
                <a:latin typeface="Arial"/>
                <a:hlinkClick r:id="rId2"/>
              </a:rPr>
              <a:t>http://lib.fbcc.bia.edu/FortBerthold/images/ThreeTribes/Spotted_Bull_Manda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d943f"/>
                </a:solidFill>
                <a:uFillTx/>
                <a:latin typeface="Arial"/>
                <a:hlinkClick r:id="rId4"/>
              </a:rPr>
              <a:t>http://content.answers.com/main/content/wp/en/thumb/9/94/180px-Mandan_girls_gathering_berr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d943f"/>
                </a:solidFill>
                <a:uFillTx/>
                <a:latin typeface="Arial"/>
                <a:hlinkClick r:id="rId6"/>
              </a:rPr>
              <a:t>http://www.answers.com/topic/bodmer-bison-dance-jp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nswers.com/topic/catlin-mandan-village-jp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topic/catlin-chief-four-bears-jp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mory.loc.gov/cgi-bin/query/S?pp/ils:@FILREQ(@field(SUBJ+@band(Crow's+Heart+))+@FIELD(COLLID+ecu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anada-photos.com/data/media/4/buffalo-bison_3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tgfp.com/buffalo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mory.loc.gov/cgi-bin/query/S?pp/ils:@FILREQ(@field(SUBJ+@band(Crow's+Heart+))+@FIELD(COLLID+ecu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01_Spirit_Flyer_Fretwell_Flutes.mp3" descr=""/>
          <p:cNvPicPr/>
          <p:nvPr/>
        </p:nvPicPr>
        <p:blipFill>
          <a:blip r:embed="rId1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0618" fill="hold"/>
                                        <p:tgtEl>
                                          <p:spTgt spid="1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1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2000" fill="hold"/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356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9d943f"/>
                </a:solidFill>
                <a:latin typeface="GungsuhChe"/>
                <a:ea typeface="GungsuhChe"/>
              </a:rPr>
              <a:t>Thanks for Watching and Listening!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8" name="01_Spirit_Flyer_Fretwell_Flutes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9" name="WordArt 7"/>
          <p:cNvSpPr txBox="1"/>
          <p:nvPr/>
        </p:nvSpPr>
        <p:spPr>
          <a:xfrm rot="21436200">
            <a:off x="466560" y="5581800"/>
            <a:ext cx="7191720" cy="59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lackoak Std"/>
              <a:ea typeface="Blackoak Std"/>
            </a:endParaRPr>
          </a:p>
        </p:txBody>
      </p:sp>
      <p:sp>
        <p:nvSpPr>
          <p:cNvPr id="1310" name="WordArt 8"/>
          <p:cNvSpPr txBox="1"/>
          <p:nvPr/>
        </p:nvSpPr>
        <p:spPr>
          <a:xfrm rot="307800">
            <a:off x="393480" y="624960"/>
            <a:ext cx="7191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lackoak Std"/>
              <a:ea typeface="Blackoak Std"/>
            </a:endParaRPr>
          </a:p>
        </p:txBody>
      </p:sp>
    </p:spTree>
  </p:cSld>
  <p:transition spd="slow" advTm="20000">
    <p:newsflash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20618" fill="hold"/>
                                        <p:tgtEl>
                                          <p:spTgt spid="1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618"/>
                            </p:stCondLst>
                            <p:childTnLst>
                              <p:par>
                                <p:cTn id="2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67" dur="2000" fill="hold"/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6670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ESSTIXFiftee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ESSTIXFifteen"/>
              </a:rPr>
              <a:t>Cre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01_Spirit_Flyer_Fretwell_Flutes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4" name="WordArt 8"/>
          <p:cNvSpPr txBox="1"/>
          <p:nvPr/>
        </p:nvSpPr>
        <p:spPr>
          <a:xfrm>
            <a:off x="380880" y="5943600"/>
            <a:ext cx="7191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lackoak Std"/>
              <a:ea typeface="Blackoak Std"/>
            </a:endParaRPr>
          </a:p>
        </p:txBody>
      </p:sp>
      <p:sp>
        <p:nvSpPr>
          <p:cNvPr id="1315" name="WordArt 9"/>
          <p:cNvSpPr txBox="1"/>
          <p:nvPr/>
        </p:nvSpPr>
        <p:spPr>
          <a:xfrm rot="400800">
            <a:off x="304920" y="1523880"/>
            <a:ext cx="7191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lackoak Std"/>
              </a:rPr>
              <a:t>PREPARING Lewis and Clark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lackoak Std"/>
              <a:ea typeface="Blackoak Std"/>
            </a:endParaRPr>
          </a:p>
        </p:txBody>
      </p:sp>
      <p:sp>
        <p:nvSpPr>
          <p:cNvPr id="1316" name="Ink 8"/>
          <p:cNvSpPr/>
          <p:nvPr/>
        </p:nvSpPr>
        <p:spPr>
          <a:xfrm>
            <a:off x="793800" y="4365720"/>
            <a:ext cx="5178240" cy="1143000"/>
          </a:xfrm>
          <a:custGeom>
            <a:avLst/>
            <a:gdLst/>
            <a:ahLst/>
            <a:rect l="l" t="t" r="r" b="b"/>
            <a:pathLst>
              <a:path w="14387" h="3176">
                <a:moveTo>
                  <a:pt x="3492" y="12621"/>
                </a:moveTo>
                <a:cubicBezTo>
                  <a:pt x="3466" y="12675"/>
                  <a:pt x="3433" y="12704"/>
                  <a:pt x="3413" y="12760"/>
                </a:cubicBezTo>
                <a:cubicBezTo>
                  <a:pt x="3396" y="12806"/>
                  <a:pt x="3386" y="12853"/>
                  <a:pt x="3373" y="12898"/>
                </a:cubicBezTo>
                <a:cubicBezTo>
                  <a:pt x="3370" y="12910"/>
                  <a:pt x="3359" y="12991"/>
                  <a:pt x="3354" y="12998"/>
                </a:cubicBezTo>
                <a:cubicBezTo>
                  <a:pt x="3335" y="13024"/>
                  <a:pt x="3368" y="13054"/>
                  <a:pt x="3354" y="12998"/>
                </a:cubicBezTo>
                <a:cubicBezTo>
                  <a:pt x="3331" y="12905"/>
                  <a:pt x="3360" y="12829"/>
                  <a:pt x="3314" y="12760"/>
                </a:cubicBezTo>
                <a:cubicBezTo>
                  <a:pt x="3254" y="12670"/>
                  <a:pt x="3309" y="12750"/>
                  <a:pt x="3235" y="12700"/>
                </a:cubicBezTo>
                <a:cubicBezTo>
                  <a:pt x="3220" y="12690"/>
                  <a:pt x="3210" y="12669"/>
                  <a:pt x="3175" y="12660"/>
                </a:cubicBezTo>
                <a:cubicBezTo>
                  <a:pt x="3066" y="12634"/>
                  <a:pt x="2956" y="12670"/>
                  <a:pt x="2858" y="12700"/>
                </a:cubicBezTo>
                <a:cubicBezTo>
                  <a:pt x="2792" y="12720"/>
                  <a:pt x="2730" y="12761"/>
                  <a:pt x="2679" y="12799"/>
                </a:cubicBezTo>
                <a:cubicBezTo>
                  <a:pt x="2635" y="12831"/>
                  <a:pt x="2635" y="12842"/>
                  <a:pt x="2600" y="12879"/>
                </a:cubicBezTo>
                <a:cubicBezTo>
                  <a:pt x="2573" y="12907"/>
                  <a:pt x="2536" y="12949"/>
                  <a:pt x="2500" y="12998"/>
                </a:cubicBezTo>
                <a:cubicBezTo>
                  <a:pt x="2439" y="13081"/>
                  <a:pt x="2388" y="13159"/>
                  <a:pt x="2342" y="13256"/>
                </a:cubicBezTo>
                <a:cubicBezTo>
                  <a:pt x="2292" y="13361"/>
                  <a:pt x="2222" y="13515"/>
                  <a:pt x="2203" y="13633"/>
                </a:cubicBezTo>
                <a:cubicBezTo>
                  <a:pt x="2187" y="13729"/>
                  <a:pt x="2203" y="13815"/>
                  <a:pt x="2242" y="13891"/>
                </a:cubicBezTo>
                <a:cubicBezTo>
                  <a:pt x="2271" y="13947"/>
                  <a:pt x="2333" y="14006"/>
                  <a:pt x="2381" y="14049"/>
                </a:cubicBezTo>
                <a:cubicBezTo>
                  <a:pt x="2437" y="14099"/>
                  <a:pt x="2512" y="14133"/>
                  <a:pt x="2580" y="14168"/>
                </a:cubicBezTo>
                <a:cubicBezTo>
                  <a:pt x="2745" y="14252"/>
                  <a:pt x="2858" y="14269"/>
                  <a:pt x="3036" y="14288"/>
                </a:cubicBezTo>
                <a:cubicBezTo>
                  <a:pt x="3192" y="14304"/>
                  <a:pt x="3447" y="14353"/>
                  <a:pt x="3592" y="14288"/>
                </a:cubicBezTo>
                <a:cubicBezTo>
                  <a:pt x="3656" y="14259"/>
                  <a:pt x="3694" y="14211"/>
                  <a:pt x="3731" y="14168"/>
                </a:cubicBezTo>
                <a:cubicBezTo>
                  <a:pt x="3761" y="14133"/>
                  <a:pt x="3836" y="14036"/>
                  <a:pt x="3870" y="13990"/>
                </a:cubicBezTo>
                <a:cubicBezTo>
                  <a:pt x="3907" y="13941"/>
                  <a:pt x="3988" y="13834"/>
                  <a:pt x="4008" y="13772"/>
                </a:cubicBezTo>
                <a:cubicBezTo>
                  <a:pt x="4031" y="13702"/>
                  <a:pt x="4024" y="13649"/>
                  <a:pt x="4028" y="13573"/>
                </a:cubicBezTo>
                <a:cubicBezTo>
                  <a:pt x="4034" y="13450"/>
                  <a:pt x="4035" y="13325"/>
                  <a:pt x="3989" y="13216"/>
                </a:cubicBezTo>
                <a:cubicBezTo>
                  <a:pt x="3976" y="13184"/>
                  <a:pt x="3947" y="13144"/>
                  <a:pt x="3929" y="13117"/>
                </a:cubicBezTo>
                <a:cubicBezTo>
                  <a:pt x="3905" y="13081"/>
                  <a:pt x="3841" y="13027"/>
                  <a:pt x="3830" y="13018"/>
                </a:cubicBezTo>
                <a:cubicBezTo>
                  <a:pt x="3800" y="12995"/>
                  <a:pt x="3787" y="12953"/>
                  <a:pt x="3750" y="12958"/>
                </a:cubicBezTo>
                <a:cubicBezTo>
                  <a:pt x="3657" y="12971"/>
                  <a:pt x="3703" y="12997"/>
                  <a:pt x="3651" y="13057"/>
                </a:cubicBezTo>
                <a:cubicBezTo>
                  <a:pt x="3617" y="13097"/>
                  <a:pt x="3567" y="13183"/>
                  <a:pt x="3552" y="13236"/>
                </a:cubicBezTo>
                <a:cubicBezTo>
                  <a:pt x="3538" y="13287"/>
                  <a:pt x="3540" y="13361"/>
                  <a:pt x="3532" y="13414"/>
                </a:cubicBezTo>
                <a:cubicBezTo>
                  <a:pt x="3523" y="13476"/>
                  <a:pt x="3515" y="13529"/>
                  <a:pt x="3512" y="13593"/>
                </a:cubicBezTo>
                <a:cubicBezTo>
                  <a:pt x="3506" y="13704"/>
                  <a:pt x="3517" y="13781"/>
                  <a:pt x="3552" y="13871"/>
                </a:cubicBezTo>
                <a:cubicBezTo>
                  <a:pt x="3576" y="13932"/>
                  <a:pt x="3601" y="13964"/>
                  <a:pt x="3631" y="14010"/>
                </a:cubicBezTo>
                <a:cubicBezTo>
                  <a:pt x="3649" y="14037"/>
                  <a:pt x="3676" y="14074"/>
                  <a:pt x="3691" y="14109"/>
                </a:cubicBezTo>
                <a:cubicBezTo>
                  <a:pt x="3693" y="14113"/>
                  <a:pt x="3722" y="14149"/>
                  <a:pt x="3731" y="14168"/>
                </a:cubicBezTo>
                <a:cubicBezTo>
                  <a:pt x="3739" y="14185"/>
                  <a:pt x="3750" y="14268"/>
                  <a:pt x="3750" y="14268"/>
                </a:cubicBezTo>
                <a:cubicBezTo>
                  <a:pt x="3762" y="14197"/>
                  <a:pt x="3751" y="14134"/>
                  <a:pt x="3770" y="14069"/>
                </a:cubicBezTo>
                <a:cubicBezTo>
                  <a:pt x="3780" y="14035"/>
                  <a:pt x="3792" y="13982"/>
                  <a:pt x="3810" y="13950"/>
                </a:cubicBezTo>
                <a:cubicBezTo>
                  <a:pt x="3827" y="13919"/>
                  <a:pt x="3877" y="13886"/>
                  <a:pt x="3889" y="13871"/>
                </a:cubicBezTo>
                <a:cubicBezTo>
                  <a:pt x="3911" y="13842"/>
                  <a:pt x="3923" y="13807"/>
                  <a:pt x="3949" y="13791"/>
                </a:cubicBezTo>
                <a:cubicBezTo>
                  <a:pt x="3981" y="13771"/>
                  <a:pt x="3998" y="13766"/>
                  <a:pt x="4028" y="13752"/>
                </a:cubicBezTo>
                <a:cubicBezTo>
                  <a:pt x="4044" y="13744"/>
                  <a:pt x="4071" y="13759"/>
                  <a:pt x="4088" y="13752"/>
                </a:cubicBezTo>
                <a:cubicBezTo>
                  <a:pt x="4102" y="13832"/>
                  <a:pt x="4089" y="13886"/>
                  <a:pt x="4108" y="13950"/>
                </a:cubicBezTo>
                <a:cubicBezTo>
                  <a:pt x="4120" y="13988"/>
                  <a:pt x="4149" y="14055"/>
                  <a:pt x="4167" y="14089"/>
                </a:cubicBezTo>
                <a:cubicBezTo>
                  <a:pt x="4191" y="14136"/>
                  <a:pt x="4207" y="14163"/>
                  <a:pt x="4247" y="14208"/>
                </a:cubicBezTo>
                <a:cubicBezTo>
                  <a:pt x="4266" y="14230"/>
                  <a:pt x="4261" y="14253"/>
                  <a:pt x="4286" y="14268"/>
                </a:cubicBezTo>
                <a:cubicBezTo>
                  <a:pt x="4309" y="14281"/>
                  <a:pt x="4336" y="14289"/>
                  <a:pt x="4366" y="14288"/>
                </a:cubicBezTo>
                <a:cubicBezTo>
                  <a:pt x="4460" y="14284"/>
                  <a:pt x="4404" y="14278"/>
                  <a:pt x="4465" y="14228"/>
                </a:cubicBezTo>
                <a:cubicBezTo>
                  <a:pt x="4470" y="14224"/>
                  <a:pt x="4517" y="14179"/>
                  <a:pt x="4524" y="14168"/>
                </a:cubicBezTo>
                <a:cubicBezTo>
                  <a:pt x="4540" y="14145"/>
                  <a:pt x="4574" y="14061"/>
                  <a:pt x="4584" y="14030"/>
                </a:cubicBezTo>
                <a:cubicBezTo>
                  <a:pt x="4600" y="13979"/>
                  <a:pt x="4612" y="13941"/>
                  <a:pt x="4624" y="13891"/>
                </a:cubicBezTo>
                <a:cubicBezTo>
                  <a:pt x="4638" y="13833"/>
                  <a:pt x="4606" y="13781"/>
                  <a:pt x="4643" y="13732"/>
                </a:cubicBezTo>
                <a:cubicBezTo>
                  <a:pt x="4666" y="13701"/>
                  <a:pt x="4694" y="13691"/>
                  <a:pt x="4723" y="13672"/>
                </a:cubicBezTo>
                <a:cubicBezTo>
                  <a:pt x="4758" y="13649"/>
                  <a:pt x="4840" y="13640"/>
                  <a:pt x="4882" y="13633"/>
                </a:cubicBezTo>
                <a:cubicBezTo>
                  <a:pt x="4956" y="13621"/>
                  <a:pt x="5019" y="13607"/>
                  <a:pt x="5080" y="13593"/>
                </a:cubicBezTo>
                <a:cubicBezTo>
                  <a:pt x="5126" y="13583"/>
                  <a:pt x="5150" y="13582"/>
                  <a:pt x="5179" y="13573"/>
                </a:cubicBezTo>
                <a:cubicBezTo>
                  <a:pt x="5166" y="13665"/>
                  <a:pt x="5145" y="13755"/>
                  <a:pt x="5140" y="13851"/>
                </a:cubicBezTo>
                <a:cubicBezTo>
                  <a:pt x="5136" y="13926"/>
                  <a:pt x="5146" y="14023"/>
                  <a:pt x="5159" y="14069"/>
                </a:cubicBezTo>
                <a:cubicBezTo>
                  <a:pt x="5172" y="14116"/>
                  <a:pt x="5163" y="14101"/>
                  <a:pt x="5199" y="14149"/>
                </a:cubicBezTo>
                <a:cubicBezTo>
                  <a:pt x="5221" y="14177"/>
                  <a:pt x="5240" y="14214"/>
                  <a:pt x="5278" y="14228"/>
                </a:cubicBezTo>
                <a:cubicBezTo>
                  <a:pt x="5315" y="14241"/>
                  <a:pt x="5350" y="14261"/>
                  <a:pt x="5398" y="14248"/>
                </a:cubicBezTo>
                <a:cubicBezTo>
                  <a:pt x="5420" y="14242"/>
                  <a:pt x="5499" y="14152"/>
                  <a:pt x="5536" y="14129"/>
                </a:cubicBezTo>
                <a:cubicBezTo>
                  <a:pt x="5600" y="14089"/>
                  <a:pt x="5660" y="14040"/>
                  <a:pt x="5715" y="13990"/>
                </a:cubicBezTo>
                <a:cubicBezTo>
                  <a:pt x="5751" y="13957"/>
                  <a:pt x="5798" y="13954"/>
                  <a:pt x="5814" y="13910"/>
                </a:cubicBezTo>
                <a:cubicBezTo>
                  <a:pt x="5831" y="13863"/>
                  <a:pt x="5798" y="13807"/>
                  <a:pt x="5794" y="13791"/>
                </a:cubicBezTo>
                <a:cubicBezTo>
                  <a:pt x="5782" y="13748"/>
                  <a:pt x="5776" y="13752"/>
                  <a:pt x="5755" y="13712"/>
                </a:cubicBezTo>
                <a:cubicBezTo>
                  <a:pt x="5741" y="13685"/>
                  <a:pt x="5706" y="13667"/>
                  <a:pt x="5695" y="13652"/>
                </a:cubicBezTo>
                <a:cubicBezTo>
                  <a:pt x="5683" y="13636"/>
                  <a:pt x="5665" y="13626"/>
                  <a:pt x="5655" y="13613"/>
                </a:cubicBezTo>
                <a:cubicBezTo>
                  <a:pt x="5639" y="13593"/>
                  <a:pt x="5640" y="13581"/>
                  <a:pt x="5616" y="13553"/>
                </a:cubicBezTo>
                <a:cubicBezTo>
                  <a:pt x="5616" y="13586"/>
                  <a:pt x="5591" y="13600"/>
                  <a:pt x="5596" y="13633"/>
                </a:cubicBezTo>
                <a:cubicBezTo>
                  <a:pt x="5609" y="13709"/>
                  <a:pt x="5609" y="13744"/>
                  <a:pt x="5636" y="13811"/>
                </a:cubicBezTo>
                <a:cubicBezTo>
                  <a:pt x="5663" y="13879"/>
                  <a:pt x="5703" y="13935"/>
                  <a:pt x="5755" y="13990"/>
                </a:cubicBezTo>
                <a:cubicBezTo>
                  <a:pt x="5811" y="14050"/>
                  <a:pt x="5750" y="14025"/>
                  <a:pt x="5814" y="14049"/>
                </a:cubicBezTo>
                <a:cubicBezTo>
                  <a:pt x="5825" y="14053"/>
                  <a:pt x="5841" y="14065"/>
                  <a:pt x="5874" y="14069"/>
                </a:cubicBezTo>
                <a:cubicBezTo>
                  <a:pt x="5913" y="14074"/>
                  <a:pt x="5934" y="14054"/>
                  <a:pt x="5973" y="14049"/>
                </a:cubicBezTo>
                <a:cubicBezTo>
                  <a:pt x="6019" y="14043"/>
                  <a:pt x="6067" y="14024"/>
                  <a:pt x="6112" y="14010"/>
                </a:cubicBezTo>
                <a:cubicBezTo>
                  <a:pt x="6161" y="13994"/>
                  <a:pt x="6268" y="13974"/>
                  <a:pt x="6310" y="13950"/>
                </a:cubicBezTo>
                <a:cubicBezTo>
                  <a:pt x="6372" y="13914"/>
                  <a:pt x="6402" y="13878"/>
                  <a:pt x="6449" y="13831"/>
                </a:cubicBezTo>
                <a:cubicBezTo>
                  <a:pt x="6480" y="13800"/>
                  <a:pt x="6519" y="13779"/>
                  <a:pt x="6529" y="13752"/>
                </a:cubicBezTo>
                <a:cubicBezTo>
                  <a:pt x="6546" y="13706"/>
                  <a:pt x="6544" y="13560"/>
                  <a:pt x="6548" y="13533"/>
                </a:cubicBezTo>
                <a:cubicBezTo>
                  <a:pt x="6548" y="13527"/>
                  <a:pt x="6548" y="13520"/>
                  <a:pt x="6548" y="13514"/>
                </a:cubicBezTo>
                <a:cubicBezTo>
                  <a:pt x="6575" y="13523"/>
                  <a:pt x="6601" y="13525"/>
                  <a:pt x="6628" y="13533"/>
                </a:cubicBezTo>
                <a:cubicBezTo>
                  <a:pt x="6651" y="13540"/>
                  <a:pt x="6685" y="13543"/>
                  <a:pt x="6707" y="13553"/>
                </a:cubicBezTo>
                <a:cubicBezTo>
                  <a:pt x="6738" y="13567"/>
                  <a:pt x="6743" y="13558"/>
                  <a:pt x="6767" y="13573"/>
                </a:cubicBezTo>
                <a:cubicBezTo>
                  <a:pt x="6818" y="13604"/>
                  <a:pt x="6863" y="13662"/>
                  <a:pt x="6906" y="13692"/>
                </a:cubicBezTo>
                <a:cubicBezTo>
                  <a:pt x="6951" y="13723"/>
                  <a:pt x="6980" y="13717"/>
                  <a:pt x="7025" y="13772"/>
                </a:cubicBezTo>
                <a:cubicBezTo>
                  <a:pt x="7064" y="13819"/>
                  <a:pt x="7071" y="13767"/>
                  <a:pt x="7084" y="13831"/>
                </a:cubicBezTo>
                <a:cubicBezTo>
                  <a:pt x="7098" y="13902"/>
                  <a:pt x="7063" y="13935"/>
                  <a:pt x="7045" y="13990"/>
                </a:cubicBezTo>
                <a:cubicBezTo>
                  <a:pt x="7032" y="14030"/>
                  <a:pt x="7003" y="14056"/>
                  <a:pt x="6985" y="14089"/>
                </a:cubicBezTo>
                <a:cubicBezTo>
                  <a:pt x="6970" y="14115"/>
                  <a:pt x="6962" y="14156"/>
                  <a:pt x="6945" y="14168"/>
                </a:cubicBezTo>
                <a:cubicBezTo>
                  <a:pt x="6926" y="14182"/>
                  <a:pt x="6916" y="14197"/>
                  <a:pt x="6886" y="14208"/>
                </a:cubicBezTo>
                <a:cubicBezTo>
                  <a:pt x="6790" y="14244"/>
                  <a:pt x="6644" y="14201"/>
                  <a:pt x="6568" y="14168"/>
                </a:cubicBezTo>
                <a:cubicBezTo>
                  <a:pt x="6536" y="14154"/>
                  <a:pt x="6520" y="14128"/>
                  <a:pt x="6489" y="14109"/>
                </a:cubicBezTo>
                <a:cubicBezTo>
                  <a:pt x="6466" y="14095"/>
                  <a:pt x="6459" y="14093"/>
                  <a:pt x="6429" y="14069"/>
                </a:cubicBezTo>
                <a:cubicBezTo>
                  <a:pt x="6401" y="14047"/>
                  <a:pt x="6381" y="14029"/>
                  <a:pt x="6370" y="14010"/>
                </a:cubicBezTo>
                <a:cubicBezTo>
                  <a:pt x="6362" y="13996"/>
                  <a:pt x="6336" y="13986"/>
                  <a:pt x="6330" y="13950"/>
                </a:cubicBezTo>
                <a:cubicBezTo>
                  <a:pt x="6322" y="13903"/>
                  <a:pt x="6335" y="13875"/>
                  <a:pt x="6350" y="13851"/>
                </a:cubicBezTo>
                <a:cubicBezTo>
                  <a:pt x="6366" y="13825"/>
                  <a:pt x="6363" y="13826"/>
                  <a:pt x="6390" y="13811"/>
                </a:cubicBezTo>
                <a:cubicBezTo>
                  <a:pt x="6416" y="13796"/>
                  <a:pt x="6440" y="13799"/>
                  <a:pt x="6469" y="13791"/>
                </a:cubicBezTo>
                <a:cubicBezTo>
                  <a:pt x="6575" y="13762"/>
                  <a:pt x="6669" y="13809"/>
                  <a:pt x="6747" y="13851"/>
                </a:cubicBezTo>
                <a:cubicBezTo>
                  <a:pt x="6788" y="13873"/>
                  <a:pt x="6850" y="13917"/>
                  <a:pt x="6886" y="13950"/>
                </a:cubicBezTo>
                <a:cubicBezTo>
                  <a:pt x="6921" y="13982"/>
                  <a:pt x="6937" y="14018"/>
                  <a:pt x="6965" y="14049"/>
                </a:cubicBezTo>
                <a:cubicBezTo>
                  <a:pt x="6999" y="14086"/>
                  <a:pt x="7007" y="14117"/>
                  <a:pt x="7045" y="14149"/>
                </a:cubicBezTo>
                <a:cubicBezTo>
                  <a:pt x="7074" y="14174"/>
                  <a:pt x="7081" y="14196"/>
                  <a:pt x="7104" y="14208"/>
                </a:cubicBezTo>
                <a:cubicBezTo>
                  <a:pt x="7110" y="14211"/>
                  <a:pt x="7182" y="14248"/>
                  <a:pt x="7183" y="14248"/>
                </a:cubicBezTo>
                <a:cubicBezTo>
                  <a:pt x="7236" y="14256"/>
                  <a:pt x="7278" y="14243"/>
                  <a:pt x="7302" y="14228"/>
                </a:cubicBezTo>
                <a:cubicBezTo>
                  <a:pt x="7321" y="14216"/>
                  <a:pt x="7307" y="14186"/>
                  <a:pt x="7322" y="14168"/>
                </a:cubicBezTo>
                <a:cubicBezTo>
                  <a:pt x="7358" y="14124"/>
                  <a:pt x="7362" y="14093"/>
                  <a:pt x="7382" y="14049"/>
                </a:cubicBezTo>
                <a:cubicBezTo>
                  <a:pt x="7404" y="13999"/>
                  <a:pt x="7418" y="13943"/>
                  <a:pt x="7441" y="13891"/>
                </a:cubicBezTo>
                <a:cubicBezTo>
                  <a:pt x="7472" y="13820"/>
                  <a:pt x="7491" y="13767"/>
                  <a:pt x="7501" y="13692"/>
                </a:cubicBezTo>
                <a:cubicBezTo>
                  <a:pt x="7533" y="13462"/>
                  <a:pt x="7592" y="12780"/>
                  <a:pt x="7481" y="12621"/>
                </a:cubicBezTo>
                <a:cubicBezTo>
                  <a:pt x="7464" y="12597"/>
                  <a:pt x="7470" y="12595"/>
                  <a:pt x="7441" y="12581"/>
                </a:cubicBezTo>
                <a:cubicBezTo>
                  <a:pt x="7421" y="12571"/>
                  <a:pt x="7390" y="12552"/>
                  <a:pt x="7362" y="12561"/>
                </a:cubicBezTo>
                <a:cubicBezTo>
                  <a:pt x="7336" y="12569"/>
                  <a:pt x="7301" y="12599"/>
                  <a:pt x="7283" y="12621"/>
                </a:cubicBezTo>
                <a:cubicBezTo>
                  <a:pt x="7271" y="12636"/>
                  <a:pt x="7207" y="12802"/>
                  <a:pt x="7203" y="12819"/>
                </a:cubicBezTo>
                <a:cubicBezTo>
                  <a:pt x="7189" y="12880"/>
                  <a:pt x="7188" y="12955"/>
                  <a:pt x="7183" y="13018"/>
                </a:cubicBezTo>
                <a:cubicBezTo>
                  <a:pt x="7172" y="13152"/>
                  <a:pt x="7212" y="13243"/>
                  <a:pt x="7243" y="13355"/>
                </a:cubicBezTo>
                <a:cubicBezTo>
                  <a:pt x="7252" y="13387"/>
                  <a:pt x="7281" y="13465"/>
                  <a:pt x="7283" y="13474"/>
                </a:cubicBezTo>
                <a:cubicBezTo>
                  <a:pt x="7289" y="13499"/>
                  <a:pt x="7301" y="13570"/>
                  <a:pt x="7302" y="13573"/>
                </a:cubicBezTo>
                <a:cubicBezTo>
                  <a:pt x="7314" y="13617"/>
                  <a:pt x="7309" y="13650"/>
                  <a:pt x="7322" y="13692"/>
                </a:cubicBezTo>
                <a:cubicBezTo>
                  <a:pt x="7332" y="13725"/>
                  <a:pt x="7353" y="13760"/>
                  <a:pt x="7362" y="13791"/>
                </a:cubicBezTo>
                <a:cubicBezTo>
                  <a:pt x="7372" y="13825"/>
                  <a:pt x="7379" y="13918"/>
                  <a:pt x="7402" y="13950"/>
                </a:cubicBezTo>
                <a:cubicBezTo>
                  <a:pt x="7416" y="13970"/>
                  <a:pt x="7402" y="13998"/>
                  <a:pt x="7422" y="14010"/>
                </a:cubicBezTo>
                <a:cubicBezTo>
                  <a:pt x="7480" y="14044"/>
                  <a:pt x="7768" y="14016"/>
                  <a:pt x="7799" y="13990"/>
                </a:cubicBezTo>
                <a:cubicBezTo>
                  <a:pt x="7819" y="13973"/>
                  <a:pt x="7825" y="13973"/>
                  <a:pt x="7838" y="13950"/>
                </a:cubicBezTo>
                <a:cubicBezTo>
                  <a:pt x="7864" y="13905"/>
                  <a:pt x="7857" y="13808"/>
                  <a:pt x="7858" y="13752"/>
                </a:cubicBezTo>
                <a:cubicBezTo>
                  <a:pt x="7859" y="13684"/>
                  <a:pt x="7858" y="13614"/>
                  <a:pt x="7838" y="13553"/>
                </a:cubicBezTo>
                <a:cubicBezTo>
                  <a:pt x="7829" y="13526"/>
                  <a:pt x="7789" y="13541"/>
                  <a:pt x="7779" y="13514"/>
                </a:cubicBezTo>
                <a:cubicBezTo>
                  <a:pt x="7779" y="13507"/>
                  <a:pt x="7779" y="13501"/>
                  <a:pt x="7779" y="13494"/>
                </a:cubicBezTo>
                <a:cubicBezTo>
                  <a:pt x="7779" y="13527"/>
                  <a:pt x="7753" y="13541"/>
                  <a:pt x="7759" y="13573"/>
                </a:cubicBezTo>
                <a:cubicBezTo>
                  <a:pt x="7769" y="13628"/>
                  <a:pt x="7777" y="13658"/>
                  <a:pt x="7799" y="13712"/>
                </a:cubicBezTo>
                <a:cubicBezTo>
                  <a:pt x="7828" y="13784"/>
                  <a:pt x="7866" y="13824"/>
                  <a:pt x="7918" y="13871"/>
                </a:cubicBezTo>
                <a:cubicBezTo>
                  <a:pt x="7965" y="13912"/>
                  <a:pt x="8008" y="13925"/>
                  <a:pt x="8057" y="13950"/>
                </a:cubicBezTo>
                <a:cubicBezTo>
                  <a:pt x="8076" y="13950"/>
                  <a:pt x="8083" y="13950"/>
                  <a:pt x="8096" y="13950"/>
                </a:cubicBezTo>
                <a:cubicBezTo>
                  <a:pt x="8103" y="13934"/>
                  <a:pt x="8130" y="13893"/>
                  <a:pt x="8136" y="13871"/>
                </a:cubicBezTo>
                <a:cubicBezTo>
                  <a:pt x="8138" y="13863"/>
                  <a:pt x="8169" y="13818"/>
                  <a:pt x="8176" y="13791"/>
                </a:cubicBezTo>
                <a:cubicBezTo>
                  <a:pt x="8188" y="13741"/>
                  <a:pt x="8174" y="13697"/>
                  <a:pt x="8195" y="13652"/>
                </a:cubicBezTo>
                <a:cubicBezTo>
                  <a:pt x="8208" y="13624"/>
                  <a:pt x="8212" y="13598"/>
                  <a:pt x="8235" y="13573"/>
                </a:cubicBezTo>
                <a:cubicBezTo>
                  <a:pt x="8248" y="13559"/>
                  <a:pt x="8297" y="13523"/>
                  <a:pt x="8334" y="13514"/>
                </a:cubicBezTo>
                <a:cubicBezTo>
                  <a:pt x="8438" y="13488"/>
                  <a:pt x="8449" y="13544"/>
                  <a:pt x="8493" y="13573"/>
                </a:cubicBezTo>
                <a:cubicBezTo>
                  <a:pt x="8542" y="13605"/>
                  <a:pt x="8554" y="13624"/>
                  <a:pt x="8572" y="13672"/>
                </a:cubicBezTo>
                <a:cubicBezTo>
                  <a:pt x="8592" y="13726"/>
                  <a:pt x="8605" y="13806"/>
                  <a:pt x="8592" y="13871"/>
                </a:cubicBezTo>
                <a:cubicBezTo>
                  <a:pt x="8574" y="13889"/>
                  <a:pt x="8571" y="13895"/>
                  <a:pt x="8553" y="13891"/>
                </a:cubicBezTo>
                <a:cubicBezTo>
                  <a:pt x="8554" y="13856"/>
                  <a:pt x="8529" y="13840"/>
                  <a:pt x="8533" y="13811"/>
                </a:cubicBezTo>
                <a:cubicBezTo>
                  <a:pt x="8544" y="13731"/>
                  <a:pt x="8543" y="13664"/>
                  <a:pt x="8572" y="13593"/>
                </a:cubicBezTo>
                <a:cubicBezTo>
                  <a:pt x="8580" y="13573"/>
                  <a:pt x="8627" y="13500"/>
                  <a:pt x="8652" y="13474"/>
                </a:cubicBezTo>
                <a:cubicBezTo>
                  <a:pt x="8681" y="13444"/>
                  <a:pt x="8691" y="13407"/>
                  <a:pt x="8731" y="13395"/>
                </a:cubicBezTo>
                <a:cubicBezTo>
                  <a:pt x="8774" y="13382"/>
                  <a:pt x="8837" y="13394"/>
                  <a:pt x="8870" y="13414"/>
                </a:cubicBezTo>
                <a:cubicBezTo>
                  <a:pt x="8961" y="13468"/>
                  <a:pt x="8975" y="13632"/>
                  <a:pt x="9009" y="13712"/>
                </a:cubicBezTo>
                <a:cubicBezTo>
                  <a:pt x="9041" y="13786"/>
                  <a:pt x="9063" y="13853"/>
                  <a:pt x="9108" y="13910"/>
                </a:cubicBezTo>
                <a:cubicBezTo>
                  <a:pt x="9120" y="13926"/>
                  <a:pt x="9144" y="13977"/>
                  <a:pt x="9168" y="13990"/>
                </a:cubicBezTo>
                <a:cubicBezTo>
                  <a:pt x="9233" y="14026"/>
                  <a:pt x="9248" y="14029"/>
                  <a:pt x="9327" y="14030"/>
                </a:cubicBezTo>
                <a:cubicBezTo>
                  <a:pt x="9420" y="14031"/>
                  <a:pt x="9499" y="14008"/>
                  <a:pt x="9585" y="13970"/>
                </a:cubicBezTo>
                <a:cubicBezTo>
                  <a:pt x="9676" y="13930"/>
                  <a:pt x="9793" y="13881"/>
                  <a:pt x="9862" y="13811"/>
                </a:cubicBezTo>
                <a:cubicBezTo>
                  <a:pt x="9908" y="13764"/>
                  <a:pt x="9931" y="13769"/>
                  <a:pt x="9942" y="13712"/>
                </a:cubicBezTo>
                <a:cubicBezTo>
                  <a:pt x="9955" y="13644"/>
                  <a:pt x="9906" y="13622"/>
                  <a:pt x="9882" y="13573"/>
                </a:cubicBezTo>
                <a:cubicBezTo>
                  <a:pt x="9850" y="13508"/>
                  <a:pt x="9825" y="13461"/>
                  <a:pt x="9763" y="13414"/>
                </a:cubicBezTo>
                <a:cubicBezTo>
                  <a:pt x="9704" y="13370"/>
                  <a:pt x="9617" y="13353"/>
                  <a:pt x="9545" y="13335"/>
                </a:cubicBezTo>
                <a:cubicBezTo>
                  <a:pt x="9469" y="13315"/>
                  <a:pt x="9389" y="13307"/>
                  <a:pt x="9307" y="13315"/>
                </a:cubicBezTo>
                <a:cubicBezTo>
                  <a:pt x="9216" y="13324"/>
                  <a:pt x="9211" y="13356"/>
                  <a:pt x="9168" y="13395"/>
                </a:cubicBezTo>
                <a:cubicBezTo>
                  <a:pt x="9140" y="13420"/>
                  <a:pt x="9124" y="13429"/>
                  <a:pt x="9108" y="13474"/>
                </a:cubicBezTo>
                <a:cubicBezTo>
                  <a:pt x="9092" y="13521"/>
                  <a:pt x="9085" y="13581"/>
                  <a:pt x="9088" y="13633"/>
                </a:cubicBezTo>
                <a:cubicBezTo>
                  <a:pt x="9093" y="13717"/>
                  <a:pt x="9111" y="13761"/>
                  <a:pt x="9168" y="13831"/>
                </a:cubicBezTo>
                <a:cubicBezTo>
                  <a:pt x="9236" y="13914"/>
                  <a:pt x="9295" y="13928"/>
                  <a:pt x="9386" y="13970"/>
                </a:cubicBezTo>
                <a:cubicBezTo>
                  <a:pt x="9473" y="14010"/>
                  <a:pt x="9549" y="14022"/>
                  <a:pt x="9644" y="14030"/>
                </a:cubicBezTo>
                <a:cubicBezTo>
                  <a:pt x="9750" y="14039"/>
                  <a:pt x="9863" y="14033"/>
                  <a:pt x="9962" y="14010"/>
                </a:cubicBezTo>
                <a:cubicBezTo>
                  <a:pt x="10044" y="13991"/>
                  <a:pt x="10112" y="13940"/>
                  <a:pt x="10180" y="13910"/>
                </a:cubicBezTo>
                <a:cubicBezTo>
                  <a:pt x="10244" y="13882"/>
                  <a:pt x="10322" y="13867"/>
                  <a:pt x="10378" y="13831"/>
                </a:cubicBezTo>
                <a:cubicBezTo>
                  <a:pt x="10378" y="13808"/>
                  <a:pt x="10380" y="13800"/>
                  <a:pt x="10398" y="13791"/>
                </a:cubicBezTo>
              </a:path>
              <a:path w="14387" h="3176">
                <a:moveTo>
                  <a:pt x="7957" y="12998"/>
                </a:moveTo>
                <a:cubicBezTo>
                  <a:pt x="7411" y="12998"/>
                  <a:pt x="6680" y="13134"/>
                  <a:pt x="6171" y="12978"/>
                </a:cubicBezTo>
                <a:cubicBezTo>
                  <a:pt x="6165" y="12978"/>
                  <a:pt x="6158" y="12978"/>
                  <a:pt x="6152" y="12978"/>
                </a:cubicBezTo>
              </a:path>
              <a:path w="14387" h="3176">
                <a:moveTo>
                  <a:pt x="7759" y="13275"/>
                </a:moveTo>
                <a:lnTo>
                  <a:pt x="7759" y="13275"/>
                </a:lnTo>
              </a:path>
              <a:path w="14387" h="3176">
                <a:moveTo>
                  <a:pt x="5636" y="13236"/>
                </a:moveTo>
                <a:lnTo>
                  <a:pt x="5636" y="13236"/>
                </a:lnTo>
              </a:path>
              <a:path w="14387" h="3176">
                <a:moveTo>
                  <a:pt x="10616" y="12462"/>
                </a:moveTo>
                <a:cubicBezTo>
                  <a:pt x="10622" y="12456"/>
                  <a:pt x="10653" y="12427"/>
                  <a:pt x="10656" y="12422"/>
                </a:cubicBezTo>
                <a:cubicBezTo>
                  <a:pt x="10675" y="12393"/>
                  <a:pt x="10693" y="12384"/>
                  <a:pt x="10716" y="12363"/>
                </a:cubicBezTo>
                <a:cubicBezTo>
                  <a:pt x="10778" y="12308"/>
                  <a:pt x="10835" y="12263"/>
                  <a:pt x="10894" y="12224"/>
                </a:cubicBezTo>
                <a:cubicBezTo>
                  <a:pt x="10930" y="12200"/>
                  <a:pt x="10954" y="12157"/>
                  <a:pt x="10993" y="12144"/>
                </a:cubicBezTo>
                <a:cubicBezTo>
                  <a:pt x="11041" y="12129"/>
                  <a:pt x="11034" y="12128"/>
                  <a:pt x="11093" y="12125"/>
                </a:cubicBezTo>
                <a:cubicBezTo>
                  <a:pt x="11188" y="12121"/>
                  <a:pt x="11286" y="12185"/>
                  <a:pt x="11370" y="12224"/>
                </a:cubicBezTo>
                <a:cubicBezTo>
                  <a:pt x="11537" y="12302"/>
                  <a:pt x="11658" y="12424"/>
                  <a:pt x="11807" y="12521"/>
                </a:cubicBezTo>
                <a:cubicBezTo>
                  <a:pt x="11885" y="12572"/>
                  <a:pt x="12032" y="12652"/>
                  <a:pt x="12125" y="12660"/>
                </a:cubicBezTo>
                <a:cubicBezTo>
                  <a:pt x="12171" y="12660"/>
                  <a:pt x="12178" y="12660"/>
                  <a:pt x="12204" y="12660"/>
                </a:cubicBezTo>
                <a:cubicBezTo>
                  <a:pt x="12204" y="12608"/>
                  <a:pt x="12202" y="12570"/>
                  <a:pt x="12224" y="12521"/>
                </a:cubicBezTo>
                <a:cubicBezTo>
                  <a:pt x="12247" y="12470"/>
                  <a:pt x="12317" y="12399"/>
                  <a:pt x="12363" y="12363"/>
                </a:cubicBezTo>
                <a:cubicBezTo>
                  <a:pt x="12419" y="12319"/>
                  <a:pt x="12480" y="12283"/>
                  <a:pt x="12541" y="12244"/>
                </a:cubicBezTo>
                <a:cubicBezTo>
                  <a:pt x="12579" y="12219"/>
                  <a:pt x="12616" y="12180"/>
                  <a:pt x="12660" y="12164"/>
                </a:cubicBezTo>
                <a:cubicBezTo>
                  <a:pt x="12667" y="12164"/>
                  <a:pt x="12673" y="12164"/>
                  <a:pt x="12680" y="12164"/>
                </a:cubicBezTo>
              </a:path>
              <a:path w="14387" h="3176">
                <a:moveTo>
                  <a:pt x="10696" y="12303"/>
                </a:moveTo>
                <a:cubicBezTo>
                  <a:pt x="10696" y="12466"/>
                  <a:pt x="10701" y="12611"/>
                  <a:pt x="10735" y="12760"/>
                </a:cubicBezTo>
                <a:cubicBezTo>
                  <a:pt x="10758" y="12861"/>
                  <a:pt x="10752" y="12979"/>
                  <a:pt x="10795" y="13077"/>
                </a:cubicBezTo>
                <a:cubicBezTo>
                  <a:pt x="10836" y="13171"/>
                  <a:pt x="10891" y="13250"/>
                  <a:pt x="10894" y="13355"/>
                </a:cubicBezTo>
                <a:cubicBezTo>
                  <a:pt x="10897" y="13454"/>
                  <a:pt x="10863" y="13668"/>
                  <a:pt x="10914" y="13732"/>
                </a:cubicBezTo>
                <a:cubicBezTo>
                  <a:pt x="10930" y="13752"/>
                  <a:pt x="10932" y="13757"/>
                  <a:pt x="10934" y="13791"/>
                </a:cubicBezTo>
                <a:cubicBezTo>
                  <a:pt x="10935" y="13811"/>
                  <a:pt x="10934" y="13831"/>
                  <a:pt x="10934" y="13851"/>
                </a:cubicBezTo>
              </a:path>
              <a:path w="14387" h="3176">
                <a:moveTo>
                  <a:pt x="11351" y="13018"/>
                </a:moveTo>
                <a:cubicBezTo>
                  <a:pt x="11314" y="13018"/>
                  <a:pt x="11300" y="13031"/>
                  <a:pt x="11271" y="13037"/>
                </a:cubicBezTo>
                <a:cubicBezTo>
                  <a:pt x="11225" y="13047"/>
                  <a:pt x="11176" y="13069"/>
                  <a:pt x="11132" y="13077"/>
                </a:cubicBezTo>
                <a:cubicBezTo>
                  <a:pt x="11072" y="13088"/>
                  <a:pt x="11014" y="13114"/>
                  <a:pt x="10954" y="13117"/>
                </a:cubicBezTo>
                <a:cubicBezTo>
                  <a:pt x="10901" y="13120"/>
                  <a:pt x="10848" y="13117"/>
                  <a:pt x="10795" y="13117"/>
                </a:cubicBezTo>
              </a:path>
              <a:path w="14387" h="3176">
                <a:moveTo>
                  <a:pt x="10914" y="13732"/>
                </a:moveTo>
                <a:cubicBezTo>
                  <a:pt x="10926" y="13711"/>
                  <a:pt x="10918" y="13673"/>
                  <a:pt x="10934" y="13652"/>
                </a:cubicBezTo>
                <a:cubicBezTo>
                  <a:pt x="10973" y="13600"/>
                  <a:pt x="11012" y="13540"/>
                  <a:pt x="11053" y="13494"/>
                </a:cubicBezTo>
                <a:cubicBezTo>
                  <a:pt x="11091" y="13451"/>
                  <a:pt x="11143" y="13411"/>
                  <a:pt x="11192" y="13375"/>
                </a:cubicBezTo>
                <a:cubicBezTo>
                  <a:pt x="11271" y="13317"/>
                  <a:pt x="11339" y="13298"/>
                  <a:pt x="11430" y="13275"/>
                </a:cubicBezTo>
                <a:cubicBezTo>
                  <a:pt x="11475" y="13263"/>
                  <a:pt x="11521" y="13256"/>
                  <a:pt x="11569" y="13256"/>
                </a:cubicBezTo>
                <a:cubicBezTo>
                  <a:pt x="11622" y="13256"/>
                  <a:pt x="11642" y="13259"/>
                  <a:pt x="11668" y="13275"/>
                </a:cubicBezTo>
                <a:cubicBezTo>
                  <a:pt x="11703" y="13296"/>
                  <a:pt x="11717" y="13286"/>
                  <a:pt x="11748" y="13335"/>
                </a:cubicBezTo>
                <a:cubicBezTo>
                  <a:pt x="11768" y="13367"/>
                  <a:pt x="11774" y="13436"/>
                  <a:pt x="11787" y="13474"/>
                </a:cubicBezTo>
                <a:cubicBezTo>
                  <a:pt x="11808" y="13536"/>
                  <a:pt x="11830" y="13541"/>
                  <a:pt x="11827" y="13613"/>
                </a:cubicBezTo>
                <a:cubicBezTo>
                  <a:pt x="11825" y="13660"/>
                  <a:pt x="11805" y="13686"/>
                  <a:pt x="11787" y="13712"/>
                </a:cubicBezTo>
                <a:cubicBezTo>
                  <a:pt x="11785" y="13715"/>
                  <a:pt x="11719" y="13743"/>
                  <a:pt x="11708" y="13752"/>
                </a:cubicBezTo>
                <a:cubicBezTo>
                  <a:pt x="11672" y="13781"/>
                  <a:pt x="11649" y="13820"/>
                  <a:pt x="11589" y="13831"/>
                </a:cubicBezTo>
                <a:cubicBezTo>
                  <a:pt x="11518" y="13844"/>
                  <a:pt x="11489" y="13814"/>
                  <a:pt x="11450" y="13791"/>
                </a:cubicBezTo>
                <a:cubicBezTo>
                  <a:pt x="11431" y="13780"/>
                  <a:pt x="11406" y="13750"/>
                  <a:pt x="11390" y="13732"/>
                </a:cubicBezTo>
                <a:cubicBezTo>
                  <a:pt x="11376" y="13716"/>
                  <a:pt x="11365" y="13703"/>
                  <a:pt x="11351" y="13672"/>
                </a:cubicBezTo>
                <a:cubicBezTo>
                  <a:pt x="11328" y="13622"/>
                  <a:pt x="11334" y="13620"/>
                  <a:pt x="11331" y="13553"/>
                </a:cubicBezTo>
                <a:cubicBezTo>
                  <a:pt x="11329" y="13493"/>
                  <a:pt x="11340" y="13447"/>
                  <a:pt x="11370" y="13395"/>
                </a:cubicBezTo>
                <a:cubicBezTo>
                  <a:pt x="11392" y="13357"/>
                  <a:pt x="11405" y="13332"/>
                  <a:pt x="11450" y="13315"/>
                </a:cubicBezTo>
                <a:cubicBezTo>
                  <a:pt x="11511" y="13293"/>
                  <a:pt x="11806" y="13294"/>
                  <a:pt x="11847" y="13335"/>
                </a:cubicBezTo>
                <a:cubicBezTo>
                  <a:pt x="11871" y="13359"/>
                  <a:pt x="11850" y="13358"/>
                  <a:pt x="11867" y="13395"/>
                </a:cubicBezTo>
                <a:cubicBezTo>
                  <a:pt x="11877" y="13417"/>
                  <a:pt x="11883" y="13470"/>
                  <a:pt x="11886" y="13494"/>
                </a:cubicBezTo>
                <a:cubicBezTo>
                  <a:pt x="11896" y="13577"/>
                  <a:pt x="11878" y="13677"/>
                  <a:pt x="11906" y="13732"/>
                </a:cubicBezTo>
                <a:cubicBezTo>
                  <a:pt x="11926" y="13771"/>
                  <a:pt x="11899" y="13762"/>
                  <a:pt x="11946" y="13791"/>
                </a:cubicBezTo>
                <a:cubicBezTo>
                  <a:pt x="11964" y="13802"/>
                  <a:pt x="11985" y="13811"/>
                  <a:pt x="12025" y="13811"/>
                </a:cubicBezTo>
                <a:cubicBezTo>
                  <a:pt x="12066" y="13811"/>
                  <a:pt x="12068" y="13799"/>
                  <a:pt x="12085" y="13791"/>
                </a:cubicBezTo>
                <a:cubicBezTo>
                  <a:pt x="12142" y="13763"/>
                  <a:pt x="12145" y="13730"/>
                  <a:pt x="12184" y="13692"/>
                </a:cubicBezTo>
                <a:cubicBezTo>
                  <a:pt x="12230" y="13647"/>
                  <a:pt x="12246" y="13602"/>
                  <a:pt x="12283" y="13553"/>
                </a:cubicBezTo>
                <a:cubicBezTo>
                  <a:pt x="12311" y="13515"/>
                  <a:pt x="12346" y="13495"/>
                  <a:pt x="12363" y="13454"/>
                </a:cubicBezTo>
                <a:cubicBezTo>
                  <a:pt x="12372" y="13431"/>
                  <a:pt x="12379" y="13377"/>
                  <a:pt x="12382" y="13355"/>
                </a:cubicBezTo>
                <a:cubicBezTo>
                  <a:pt x="12388" y="13310"/>
                  <a:pt x="12380" y="13262"/>
                  <a:pt x="12382" y="13216"/>
                </a:cubicBezTo>
                <a:cubicBezTo>
                  <a:pt x="12415" y="13220"/>
                  <a:pt x="12429" y="13235"/>
                  <a:pt x="12462" y="13236"/>
                </a:cubicBezTo>
                <a:cubicBezTo>
                  <a:pt x="12530" y="13238"/>
                  <a:pt x="12605" y="13219"/>
                  <a:pt x="12660" y="13216"/>
                </a:cubicBezTo>
                <a:cubicBezTo>
                  <a:pt x="12693" y="13214"/>
                  <a:pt x="12727" y="13220"/>
                  <a:pt x="12760" y="13216"/>
                </a:cubicBezTo>
                <a:cubicBezTo>
                  <a:pt x="12760" y="13376"/>
                  <a:pt x="12726" y="13570"/>
                  <a:pt x="12799" y="13712"/>
                </a:cubicBezTo>
                <a:cubicBezTo>
                  <a:pt x="12813" y="13740"/>
                  <a:pt x="12813" y="13736"/>
                  <a:pt x="12839" y="13752"/>
                </a:cubicBezTo>
                <a:cubicBezTo>
                  <a:pt x="12858" y="13764"/>
                  <a:pt x="12858" y="13767"/>
                  <a:pt x="12898" y="13772"/>
                </a:cubicBezTo>
                <a:cubicBezTo>
                  <a:pt x="12974" y="13782"/>
                  <a:pt x="13045" y="13770"/>
                  <a:pt x="13077" y="13712"/>
                </a:cubicBezTo>
                <a:cubicBezTo>
                  <a:pt x="13116" y="13643"/>
                  <a:pt x="13089" y="13474"/>
                  <a:pt x="13117" y="13395"/>
                </a:cubicBezTo>
                <a:cubicBezTo>
                  <a:pt x="13133" y="13350"/>
                  <a:pt x="13142" y="13317"/>
                  <a:pt x="13176" y="13275"/>
                </a:cubicBezTo>
                <a:cubicBezTo>
                  <a:pt x="13197" y="13248"/>
                  <a:pt x="13218" y="13249"/>
                  <a:pt x="13236" y="13236"/>
                </a:cubicBezTo>
                <a:cubicBezTo>
                  <a:pt x="13271" y="13211"/>
                  <a:pt x="13303" y="13197"/>
                  <a:pt x="13355" y="13176"/>
                </a:cubicBezTo>
                <a:cubicBezTo>
                  <a:pt x="13394" y="13161"/>
                  <a:pt x="13440" y="13152"/>
                  <a:pt x="13474" y="13137"/>
                </a:cubicBezTo>
                <a:cubicBezTo>
                  <a:pt x="13474" y="13117"/>
                  <a:pt x="13474" y="13110"/>
                  <a:pt x="13494" y="13117"/>
                </a:cubicBezTo>
                <a:cubicBezTo>
                  <a:pt x="13490" y="13226"/>
                  <a:pt x="13479" y="13336"/>
                  <a:pt x="13474" y="13434"/>
                </a:cubicBezTo>
                <a:cubicBezTo>
                  <a:pt x="13472" y="13474"/>
                  <a:pt x="13475" y="13513"/>
                  <a:pt x="13474" y="13553"/>
                </a:cubicBezTo>
                <a:cubicBezTo>
                  <a:pt x="13477" y="13546"/>
                  <a:pt x="13487" y="13520"/>
                  <a:pt x="13494" y="13494"/>
                </a:cubicBezTo>
                <a:cubicBezTo>
                  <a:pt x="13509" y="13436"/>
                  <a:pt x="13532" y="13388"/>
                  <a:pt x="13553" y="13335"/>
                </a:cubicBezTo>
                <a:cubicBezTo>
                  <a:pt x="13575" y="13281"/>
                  <a:pt x="13591" y="13222"/>
                  <a:pt x="13633" y="13176"/>
                </a:cubicBezTo>
                <a:cubicBezTo>
                  <a:pt x="13656" y="13152"/>
                  <a:pt x="13649" y="13129"/>
                  <a:pt x="13692" y="13117"/>
                </a:cubicBezTo>
                <a:cubicBezTo>
                  <a:pt x="13748" y="13101"/>
                  <a:pt x="13841" y="13126"/>
                  <a:pt x="13871" y="13176"/>
                </a:cubicBezTo>
                <a:cubicBezTo>
                  <a:pt x="13907" y="13236"/>
                  <a:pt x="13887" y="13308"/>
                  <a:pt x="13891" y="13375"/>
                </a:cubicBezTo>
                <a:cubicBezTo>
                  <a:pt x="13898" y="13493"/>
                  <a:pt x="13882" y="13615"/>
                  <a:pt x="13871" y="13732"/>
                </a:cubicBezTo>
                <a:cubicBezTo>
                  <a:pt x="13860" y="13844"/>
                  <a:pt x="13853" y="13953"/>
                  <a:pt x="13851" y="14069"/>
                </a:cubicBezTo>
                <a:cubicBezTo>
                  <a:pt x="13848" y="14295"/>
                  <a:pt x="13873" y="14519"/>
                  <a:pt x="13891" y="14744"/>
                </a:cubicBezTo>
                <a:cubicBezTo>
                  <a:pt x="13903" y="14901"/>
                  <a:pt x="13919" y="15068"/>
                  <a:pt x="13930" y="15220"/>
                </a:cubicBezTo>
                <a:cubicBezTo>
                  <a:pt x="13932" y="15253"/>
                  <a:pt x="13925" y="15247"/>
                  <a:pt x="13930" y="15280"/>
                </a:cubicBezTo>
                <a:cubicBezTo>
                  <a:pt x="13917" y="15192"/>
                  <a:pt x="13904" y="15110"/>
                  <a:pt x="13891" y="15022"/>
                </a:cubicBezTo>
                <a:cubicBezTo>
                  <a:pt x="13874" y="14907"/>
                  <a:pt x="13873" y="14801"/>
                  <a:pt x="13871" y="14684"/>
                </a:cubicBezTo>
                <a:cubicBezTo>
                  <a:pt x="13870" y="14587"/>
                  <a:pt x="13876" y="14501"/>
                  <a:pt x="13891" y="14407"/>
                </a:cubicBezTo>
                <a:cubicBezTo>
                  <a:pt x="13927" y="14186"/>
                  <a:pt x="14024" y="14033"/>
                  <a:pt x="14109" y="13831"/>
                </a:cubicBezTo>
                <a:cubicBezTo>
                  <a:pt x="14154" y="13724"/>
                  <a:pt x="14192" y="13622"/>
                  <a:pt x="14228" y="13514"/>
                </a:cubicBezTo>
                <a:cubicBezTo>
                  <a:pt x="14247" y="13457"/>
                  <a:pt x="14277" y="13394"/>
                  <a:pt x="14307" y="13335"/>
                </a:cubicBezTo>
                <a:cubicBezTo>
                  <a:pt x="14327" y="13295"/>
                  <a:pt x="14338" y="13249"/>
                  <a:pt x="14367" y="13236"/>
                </a:cubicBezTo>
                <a:cubicBezTo>
                  <a:pt x="14436" y="13205"/>
                  <a:pt x="14653" y="13224"/>
                  <a:pt x="14724" y="13256"/>
                </a:cubicBezTo>
                <a:cubicBezTo>
                  <a:pt x="14766" y="13275"/>
                  <a:pt x="14805" y="13301"/>
                  <a:pt x="14823" y="13335"/>
                </a:cubicBezTo>
                <a:cubicBezTo>
                  <a:pt x="14844" y="13375"/>
                  <a:pt x="14843" y="13383"/>
                  <a:pt x="14843" y="13434"/>
                </a:cubicBezTo>
                <a:cubicBezTo>
                  <a:pt x="14843" y="13511"/>
                  <a:pt x="14833" y="13494"/>
                  <a:pt x="14803" y="13553"/>
                </a:cubicBezTo>
                <a:cubicBezTo>
                  <a:pt x="14779" y="13600"/>
                  <a:pt x="14757" y="13615"/>
                  <a:pt x="14724" y="13652"/>
                </a:cubicBezTo>
                <a:cubicBezTo>
                  <a:pt x="14703" y="13675"/>
                  <a:pt x="14644" y="13750"/>
                  <a:pt x="14605" y="13772"/>
                </a:cubicBezTo>
                <a:cubicBezTo>
                  <a:pt x="14572" y="13791"/>
                  <a:pt x="14535" y="13821"/>
                  <a:pt x="14486" y="13811"/>
                </a:cubicBezTo>
                <a:cubicBezTo>
                  <a:pt x="14432" y="13800"/>
                  <a:pt x="14470" y="13801"/>
                  <a:pt x="14426" y="13772"/>
                </a:cubicBezTo>
                <a:cubicBezTo>
                  <a:pt x="14388" y="13747"/>
                  <a:pt x="14375" y="13708"/>
                  <a:pt x="14347" y="13672"/>
                </a:cubicBezTo>
                <a:cubicBezTo>
                  <a:pt x="14321" y="13637"/>
                  <a:pt x="14303" y="13614"/>
                  <a:pt x="14288" y="13573"/>
                </a:cubicBezTo>
                <a:cubicBezTo>
                  <a:pt x="14276" y="13540"/>
                  <a:pt x="14273" y="13509"/>
                  <a:pt x="14268" y="13474"/>
                </a:cubicBezTo>
                <a:cubicBezTo>
                  <a:pt x="14262" y="13426"/>
                  <a:pt x="14275" y="13394"/>
                  <a:pt x="14288" y="13355"/>
                </a:cubicBezTo>
                <a:cubicBezTo>
                  <a:pt x="14296" y="13331"/>
                  <a:pt x="14304" y="13322"/>
                  <a:pt x="14327" y="13295"/>
                </a:cubicBezTo>
                <a:cubicBezTo>
                  <a:pt x="14344" y="13275"/>
                  <a:pt x="14323" y="13247"/>
                  <a:pt x="14347" y="13236"/>
                </a:cubicBezTo>
                <a:cubicBezTo>
                  <a:pt x="14399" y="13212"/>
                  <a:pt x="14562" y="13229"/>
                  <a:pt x="14605" y="13256"/>
                </a:cubicBezTo>
                <a:cubicBezTo>
                  <a:pt x="14637" y="13276"/>
                  <a:pt x="14657" y="13326"/>
                  <a:pt x="14684" y="13355"/>
                </a:cubicBezTo>
                <a:cubicBezTo>
                  <a:pt x="14724" y="13397"/>
                  <a:pt x="14746" y="13433"/>
                  <a:pt x="14784" y="13474"/>
                </a:cubicBezTo>
                <a:cubicBezTo>
                  <a:pt x="14790" y="13481"/>
                  <a:pt x="14814" y="13526"/>
                  <a:pt x="14823" y="13533"/>
                </a:cubicBezTo>
                <a:cubicBezTo>
                  <a:pt x="14873" y="13569"/>
                  <a:pt x="14931" y="13581"/>
                  <a:pt x="14982" y="13613"/>
                </a:cubicBezTo>
                <a:cubicBezTo>
                  <a:pt x="15015" y="13634"/>
                  <a:pt x="15073" y="13664"/>
                  <a:pt x="15101" y="13692"/>
                </a:cubicBezTo>
                <a:cubicBezTo>
                  <a:pt x="15114" y="13705"/>
                  <a:pt x="15102" y="13744"/>
                  <a:pt x="15121" y="13752"/>
                </a:cubicBezTo>
                <a:cubicBezTo>
                  <a:pt x="15154" y="13765"/>
                  <a:pt x="15144" y="13777"/>
                  <a:pt x="15200" y="13772"/>
                </a:cubicBezTo>
                <a:cubicBezTo>
                  <a:pt x="15258" y="13767"/>
                  <a:pt x="15256" y="13764"/>
                  <a:pt x="15300" y="13732"/>
                </a:cubicBezTo>
                <a:cubicBezTo>
                  <a:pt x="15339" y="13704"/>
                  <a:pt x="15337" y="13672"/>
                  <a:pt x="15359" y="13633"/>
                </a:cubicBezTo>
                <a:cubicBezTo>
                  <a:pt x="15379" y="13597"/>
                  <a:pt x="15412" y="13516"/>
                  <a:pt x="15419" y="13474"/>
                </a:cubicBezTo>
                <a:cubicBezTo>
                  <a:pt x="15434" y="13389"/>
                  <a:pt x="15417" y="13276"/>
                  <a:pt x="15438" y="13216"/>
                </a:cubicBezTo>
                <a:cubicBezTo>
                  <a:pt x="15452" y="13175"/>
                  <a:pt x="15439" y="13162"/>
                  <a:pt x="15458" y="13137"/>
                </a:cubicBezTo>
                <a:cubicBezTo>
                  <a:pt x="15476" y="13113"/>
                  <a:pt x="15556" y="13055"/>
                  <a:pt x="15577" y="13037"/>
                </a:cubicBezTo>
                <a:cubicBezTo>
                  <a:pt x="15595" y="13020"/>
                  <a:pt x="15599" y="13013"/>
                  <a:pt x="15617" y="13018"/>
                </a:cubicBezTo>
                <a:cubicBezTo>
                  <a:pt x="15619" y="13021"/>
                  <a:pt x="15675" y="13054"/>
                  <a:pt x="15677" y="13057"/>
                </a:cubicBezTo>
                <a:cubicBezTo>
                  <a:pt x="15700" y="13104"/>
                  <a:pt x="15699" y="13132"/>
                  <a:pt x="15716" y="13176"/>
                </a:cubicBezTo>
                <a:cubicBezTo>
                  <a:pt x="15731" y="13216"/>
                  <a:pt x="15742" y="13258"/>
                  <a:pt x="15756" y="13295"/>
                </a:cubicBezTo>
                <a:cubicBezTo>
                  <a:pt x="15768" y="13327"/>
                  <a:pt x="15784" y="13359"/>
                  <a:pt x="15796" y="13375"/>
                </a:cubicBezTo>
                <a:cubicBezTo>
                  <a:pt x="15816" y="13402"/>
                  <a:pt x="15810" y="13418"/>
                  <a:pt x="15835" y="13434"/>
                </a:cubicBezTo>
                <a:cubicBezTo>
                  <a:pt x="15862" y="13451"/>
                  <a:pt x="15904" y="13447"/>
                  <a:pt x="15935" y="13454"/>
                </a:cubicBezTo>
                <a:cubicBezTo>
                  <a:pt x="15984" y="13466"/>
                  <a:pt x="16015" y="13470"/>
                  <a:pt x="16073" y="13474"/>
                </a:cubicBezTo>
                <a:cubicBezTo>
                  <a:pt x="16154" y="13480"/>
                  <a:pt x="16236" y="13471"/>
                  <a:pt x="16312" y="13454"/>
                </a:cubicBezTo>
                <a:cubicBezTo>
                  <a:pt x="16377" y="13440"/>
                  <a:pt x="16452" y="13404"/>
                  <a:pt x="16510" y="13395"/>
                </a:cubicBezTo>
                <a:cubicBezTo>
                  <a:pt x="16536" y="13391"/>
                  <a:pt x="16563" y="13399"/>
                  <a:pt x="16589" y="133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newsflash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20618" fill="hold"/>
                                        <p:tgtEl>
                                          <p:spTgt spid="1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akawee looks like this!!!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1254" name="Content Placeholder 3" descr="madan girl.jpg"/>
          <p:cNvPicPr/>
          <p:nvPr/>
        </p:nvPicPr>
        <p:blipFill>
          <a:blip r:embed="rId1"/>
          <a:stretch/>
        </p:blipFill>
        <p:spPr>
          <a:xfrm>
            <a:off x="457200" y="1219320"/>
            <a:ext cx="3675240" cy="449712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" dur="2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729"/>
                </a:solidFill>
                <a:latin typeface="Arial"/>
              </a:rPr>
              <a:t>An unidentified  Mandan Chief</a:t>
            </a:r>
            <a:endParaRPr b="0" lang="en-US" sz="1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7" descr="Spotted_Bull_Mandan"/>
          <p:cNvPicPr/>
          <p:nvPr/>
        </p:nvPicPr>
        <p:blipFill>
          <a:blip r:embed="rId2"/>
          <a:stretch/>
        </p:blipFill>
        <p:spPr>
          <a:xfrm>
            <a:off x="3733920" y="228600"/>
            <a:ext cx="4038480" cy="609588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729"/>
                </a:solidFill>
                <a:latin typeface="Arial"/>
              </a:rPr>
              <a:t>Mandan Girls harvesting crops</a:t>
            </a:r>
            <a:endParaRPr b="0" lang="en-US" sz="1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0" name="Picture 7" descr="180px-Mandan_girls_gathering_berries"/>
          <p:cNvPicPr/>
          <p:nvPr/>
        </p:nvPicPr>
        <p:blipFill>
          <a:blip r:embed="rId2"/>
          <a:stretch/>
        </p:blipFill>
        <p:spPr>
          <a:xfrm>
            <a:off x="3048120" y="152280"/>
            <a:ext cx="4805280" cy="632484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The Buffalo Dance!!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5" descr="Print of the Mandan Bison Dance as observed by Karl Bodmer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357200"/>
            <a:ext cx="6782040" cy="550080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A Mandan Village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Picture 5" descr="Painting of a Mandan village by George Catlin. Circa 1833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143000"/>
            <a:ext cx="6473880" cy="453240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9" name="Picture 5" descr="Mandan Chief Ma-to-toh-pe or Four Bears, by George Cat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143000"/>
            <a:ext cx="3754440" cy="541008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2" name="Picture 5" descr="Bison-Dance of the Mandan Indians"/>
          <p:cNvPicPr/>
          <p:nvPr/>
        </p:nvPicPr>
        <p:blipFill>
          <a:blip r:embed="rId1"/>
          <a:stretch/>
        </p:blipFill>
        <p:spPr>
          <a:xfrm>
            <a:off x="609480" y="0"/>
            <a:ext cx="6778800" cy="677880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hiefs of the Mandan through the Years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Picture 7" descr="Mató-Tópe (“Four Bears,” Mandan Warrior) - 1834"/>
          <p:cNvPicPr/>
          <p:nvPr/>
        </p:nvPicPr>
        <p:blipFill>
          <a:blip r:embed="rId1"/>
          <a:stretch/>
        </p:blipFill>
        <p:spPr>
          <a:xfrm>
            <a:off x="1295280" y="21337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9" descr="Mató-Tópe (“Four Bears,” Mandan Chief) - 1834"/>
          <p:cNvPicPr/>
          <p:nvPr/>
        </p:nvPicPr>
        <p:blipFill>
          <a:blip r:embed="rId2"/>
          <a:stretch/>
        </p:blipFill>
        <p:spPr>
          <a:xfrm>
            <a:off x="4114800" y="1371600"/>
            <a:ext cx="3676680" cy="3676680"/>
          </a:xfrm>
          <a:prstGeom prst="rect">
            <a:avLst/>
          </a:prstGeom>
          <a:ln w="0">
            <a:noFill/>
          </a:ln>
        </p:spPr>
      </p:pic>
      <p:pic>
        <p:nvPicPr>
          <p:cNvPr id="1277" name="Picture 11" descr="Charging_Eagle"/>
          <p:cNvPicPr/>
          <p:nvPr/>
        </p:nvPicPr>
        <p:blipFill>
          <a:blip r:embed="rId3"/>
          <a:stretch/>
        </p:blipFill>
        <p:spPr>
          <a:xfrm>
            <a:off x="0" y="2057400"/>
            <a:ext cx="2406600" cy="340524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13" descr="CrowsHeartPortrai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895560"/>
            <a:ext cx="2295360" cy="296244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17" descr="Hall_Tex"/>
          <p:cNvPicPr/>
          <p:nvPr/>
        </p:nvPicPr>
        <p:blipFill>
          <a:blip r:embed="rId6"/>
          <a:stretch/>
        </p:blipFill>
        <p:spPr>
          <a:xfrm>
            <a:off x="0" y="4911840"/>
            <a:ext cx="2590920" cy="1946160"/>
          </a:xfrm>
          <a:prstGeom prst="rect">
            <a:avLst/>
          </a:prstGeom>
          <a:ln w="0">
            <a:noFill/>
          </a:ln>
        </p:spPr>
      </p:pic>
    </p:spTree>
  </p:cSld>
  <p:transition advTm="28000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83" dur="2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1:08:40Z</dcterms:created>
  <dc:creator>cfarzan1329</dc:creator>
  <dc:description/>
  <dc:language>en-US</dc:language>
  <cp:lastModifiedBy>cfarzan1329</cp:lastModifiedBy>
  <dcterms:modified xsi:type="dcterms:W3CDTF">2008-08-04T21:26:11Z</dcterms:modified>
  <cp:revision>22</cp:revision>
  <dc:subject/>
  <dc:title>PREPARING Lewis and Clark</dc:title>
</cp:coreProperties>
</file>